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C83C5-EA63-4B9A-BA5E-84C82FAAA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6F626-B6AA-4003-8D73-52394826B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41D8D-D19F-48B5-B4AB-EE9FA376C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C4FCE-20D1-4F0A-B3B0-6D8822E3A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76D3C2-A022-4844-8136-3E0F362E9A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A69B7-E383-4ECC-88A5-6BE7B6A17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DE963-575A-468F-AE9C-5662269B0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DA3E6-2F3F-49AF-9E2E-7096039D1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1E750-3756-4549-89EC-B9A7E25AE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E81C4-8757-4158-881D-94EAC1EC6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BD6CE-169D-4DB6-886E-427EAB72D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C5D1C-D826-41E3-9E50-2F91D0D7A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0CBBD-8EB9-4E7C-B9A6-524331B4F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8A85E-D1A3-43EF-9125-B83912796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B56E9-ED61-49E2-B4B0-2B4837476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B4064-6110-4530-94C7-2A6C304AE3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11B635-AD77-4B8E-93A0-D57848C39B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442D6D-EE23-4DE4-80D1-D8809954B4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7ECD9C-4931-41B3-A04F-16FE11CEFE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858EC8-F05F-40A3-BC91-0E3692997B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0204CC-4C44-4C7D-82C7-B4E6071F2F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3B7F21-6DF0-4DC2-A64F-A0C0D303F9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412F9-3FF8-4617-A047-8828DDF50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D76693-B2BA-4077-B9C6-2B75926F13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F993F6-F5B1-47D2-9718-DA66BC2B57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DFB716-C1B7-4045-87AC-0A5F99365F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8B2D67-727A-463B-933C-904E1780A9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B3C4E2-DD55-4562-A0AD-F485BF2F23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105F99-6680-4439-B3E9-9C8456F49E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378EE0-37EB-4719-A962-1A3710ED5A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71594A-4D9A-4D47-8B05-E514C0088B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D92C11-CDF7-4082-8BDD-8C65FDB26A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BF0D9D-E45C-4123-83AC-271F8BFED5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9A774-F324-41A6-A751-361291C62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48CF40-7E16-441E-8156-4F40A12EBC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A3A4D6-FFAB-4EE0-8539-BA66CD17AD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4A4E5F-53DD-4058-BCC0-D48F540AFF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08A5A1-92B1-4E76-8A13-46D7B4B62E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CACA9D-9FCA-4A4F-AD5A-A11135D90A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7215A5-8E74-40F0-BB72-86F8B8EBC3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5F8E20-F0EE-43FA-92A3-B3C086B4D6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5F7EA0-AE80-44D4-A6C3-89BA7003F1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874AB4-5DD4-413E-9026-3842189419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F07549-29B7-45CE-B11C-79B6D5805D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0595A-9A63-4DB8-83EF-1CBB42309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2D0901-9CD2-494D-8B64-5C25A8D023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3648A6-63C2-4D9F-9359-97A60C82BF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0F0257-88C7-46D1-91F0-1FBF8DCA8B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A038B9-0B89-45B5-9A7B-5FF024AE67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7FE86B-4454-4356-AD77-22F8A826D7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D9DA38-8119-46CF-8D4D-8BCAA59913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DF66FA-B2F1-42C3-AC44-872D8AD702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4394C5-A29A-4718-B037-BCD021F927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A7B118-6062-4258-AE84-8E18D6FF96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71AE84-3BBA-4576-A68A-854A3300A8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8C05F-7604-43C4-B43B-FA1851F14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538AAF-95AB-485F-925A-3C90B975E0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DF26BA-56F4-4089-B453-D1200D8189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FA4EC7-3547-4773-8651-8F31CDBE34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B42D64-4E37-4101-BFE3-A952A9CEEC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1D17DE-7341-42B1-8E08-72FEAE4450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151D12-80ED-4CA6-8DD1-C6903819D8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C99157-A539-44C8-BF21-59894FAC36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88F60D-154C-4259-A62E-705EDC367E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2806F8-9111-4CD3-8614-0C1C97235A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D9A398-AD2F-4B55-ADD7-D16E4AE7F2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67E54-EBE6-4822-8C71-1DAB3A318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1FAC88-0365-4F4A-8676-04EB78CB8B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09CC50-170A-4E73-8E31-AB623D03C4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AC5D3E-AC19-4576-A855-F8A3850743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22B371-240F-4CFF-A153-77BEAE9F6F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24A919-88DA-4153-8B51-735F2FE2C7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DA7F1B-3C1E-47F4-9391-4CEEEE0EBD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3E7A1F-F60E-4D6E-8344-0C31DF3121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62026F-F66C-4987-BA6B-F91B7C3D09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13809B-2A91-42D7-B15D-2938A5A618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A60600-F0B5-466C-B98A-E245AD1346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0EA8A-FB59-4296-8297-11295F004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E379E8-4847-42E5-A344-8168AFD9B2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B4EF05-B843-4125-8380-B712970597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2D1537-AF7B-4950-A800-3E91261164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0BF749-FE06-4CD3-96CD-9F323E647F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25BEF1-B663-4D50-815D-D8D81B85BC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01ABEA-32F9-4625-87EB-102723A669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0AD7B2-6E9F-41A0-B42A-4B1CD499F5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061C26-9E98-4D12-97DA-615B5EB467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3B1BC3-C69C-45D1-A884-1C32010111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B42822-4E55-4C10-B880-4A6609D10E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2B004-C314-4243-91A2-F8D9DECA5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88A3F6-EC34-4649-82BD-6F049CA3D8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4C8FFA-0EA9-4FA5-BDE6-7C9DF822E0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C02533-891D-4C57-ABDA-5CE399F024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F76B03-86A4-4579-BD65-471EE5EDC2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EAC459-A9A6-4CC2-A449-D1CD7AC8EE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3C4522-AE0B-4644-AFC9-F92B1B121A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12C380-0549-40F0-96CE-3739F12DC0E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9E70-58DB-45CD-9CFD-5225CE0E6CA7}"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8595-5F6A-4421-9868-7D1388B90A84}" type="slidenum">
              <a:rPr b="0" lang="en-C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4629A-8DFD-4B25-B823-2B42EBED6182}"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A963-9BF8-4AD5-BEA6-3DC8C7214AFF}"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DA2E-5728-4F97-B532-A27DE602229F}"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E210B-C703-4C98-AE06-194BA2950359}"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18B0D-CE60-45A3-8FBC-880B3E41AD71}"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70DD-183A-447C-9C46-D549E187CF11}" type="slidenum">
              <a:rPr b="0" lang="en-C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dutopia.org/tech-to-learn-free-online-resources-video"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808992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Question 5 &amp; 6</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Lucida Sans Unicode"/>
              </a:rPr>
              <a:t>» The need for technological literacy </a:t>
            </a:r>
            <a:r>
              <a:rPr b="0" lang="en-CA" sz="2700" spc="-1" strike="noStrike">
                <a:solidFill>
                  <a:srgbClr val="000000"/>
                </a:solidFill>
                <a:latin typeface="Lucida Sans Unicode"/>
              </a:rPr>
              <a:t>– the teacher in the video is certainly supporting growth in technological literacy.</a:t>
            </a:r>
            <a:r>
              <a:rPr b="1" lang="en-CA" sz="2700" spc="-1" strike="noStrike">
                <a:solidFill>
                  <a:srgbClr val="000000"/>
                </a:solidFill>
                <a:latin typeface="Lucida Sans Unicode"/>
              </a:rPr>
              <a:t> </a:t>
            </a:r>
            <a:br>
              <a:rPr sz="2700"/>
            </a:br>
            <a:r>
              <a:rPr b="1" lang="en-CA" sz="2700" spc="-1" strike="noStrike">
                <a:solidFill>
                  <a:srgbClr val="000000"/>
                </a:solidFill>
                <a:latin typeface="Lucida Sans Unicode"/>
              </a:rPr>
              <a:t>» The need for visual literacy </a:t>
            </a:r>
            <a:r>
              <a:rPr b="0" lang="en-CA" sz="2700" spc="-1" strike="noStrike">
                <a:solidFill>
                  <a:srgbClr val="000000"/>
                </a:solidFill>
                <a:latin typeface="Lucida Sans Unicode"/>
              </a:rPr>
              <a:t>– through their various projects the students are supporting their ideas with visual literac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328680" y="85680"/>
            <a:ext cx="8364600" cy="134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00"/>
                </a:solidFill>
                <a:latin typeface="Lucida Sans Unicode"/>
              </a:rPr>
              <a:t>Concepts:</a:t>
            </a:r>
            <a:br>
              <a:rPr sz="1500"/>
            </a:br>
            <a:r>
              <a:rPr b="0" lang="en-CA" sz="1500" spc="-1" strike="noStrike">
                <a:solidFill>
                  <a:srgbClr val="000000"/>
                </a:solidFill>
                <a:latin typeface="Lucida Sans Unicode"/>
              </a:rPr>
              <a:t>-technology is a passing trend</a:t>
            </a:r>
            <a:br>
              <a:rPr sz="1500"/>
            </a:br>
            <a:r>
              <a:rPr b="0" lang="en-CA" sz="1500" spc="-1" strike="noStrike">
                <a:solidFill>
                  <a:srgbClr val="000000"/>
                </a:solidFill>
                <a:latin typeface="Lucida Sans Unicode"/>
              </a:rPr>
              <a:t>-technology is here to stay</a:t>
            </a:r>
            <a:br>
              <a:rPr sz="1500"/>
            </a:br>
            <a:r>
              <a:rPr b="0" lang="en-CA" sz="1500" spc="-1" strike="noStrike">
                <a:solidFill>
                  <a:srgbClr val="000000"/>
                </a:solidFill>
                <a:latin typeface="Lucida Sans Unicode"/>
              </a:rPr>
              <a:t>-limited in its availability and usefulness</a:t>
            </a:r>
            <a:br>
              <a:rPr sz="1500"/>
            </a:br>
            <a:r>
              <a:rPr b="0" lang="en-CA" sz="1500" spc="-1" strike="noStrike">
                <a:solidFill>
                  <a:srgbClr val="000000"/>
                </a:solidFill>
                <a:latin typeface="Lucida Sans Unicode"/>
              </a:rPr>
              <a:t>-technology is now ubiquitous and necessary in all aspects of life</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en-CA" sz="1500" spc="-1" strike="noStrike">
                <a:solidFill>
                  <a:srgbClr val="000000"/>
                </a:solidFill>
                <a:latin typeface="Lucida Sans Unicode"/>
              </a:rPr>
              <a:t>Hopes:</a:t>
            </a:r>
            <a:br>
              <a:rPr sz="1500"/>
            </a:br>
            <a:r>
              <a:rPr b="0" lang="en-CA" sz="1500" spc="-1" strike="noStrike">
                <a:solidFill>
                  <a:srgbClr val="000000"/>
                </a:solidFill>
                <a:latin typeface="Lucida Sans Unicode"/>
              </a:rPr>
              <a:t>-new, fresh way to view and interact with information</a:t>
            </a:r>
            <a:br>
              <a:rPr sz="1500"/>
            </a:br>
            <a:r>
              <a:rPr b="0" lang="en-CA" sz="1500" spc="-1" strike="noStrike">
                <a:solidFill>
                  <a:srgbClr val="000000"/>
                </a:solidFill>
                <a:latin typeface="Lucida Sans Unicode"/>
              </a:rPr>
              <a:t>-engaging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Lucida Sans Unicode"/>
              </a:rPr>
              <a:t>– </a:t>
            </a:r>
            <a:r>
              <a:rPr b="0" lang="en-CA" sz="1500" spc="-1" strike="noStrike">
                <a:solidFill>
                  <a:srgbClr val="000000"/>
                </a:solidFill>
                <a:latin typeface="Lucida Sans Unicode"/>
              </a:rPr>
              <a:t>creates power and anticipation</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00"/>
                </a:solidFill>
                <a:latin typeface="Lucida Sans Unicode"/>
              </a:rPr>
              <a:t>Beliefs:</a:t>
            </a:r>
            <a:br>
              <a:rPr sz="1500"/>
            </a:br>
            <a:r>
              <a:rPr b="0" lang="en-CA" sz="1500" spc="-1" strike="noStrike">
                <a:solidFill>
                  <a:srgbClr val="000000"/>
                </a:solidFill>
                <a:latin typeface="Lucida Sans Unicode"/>
              </a:rPr>
              <a:t>-we need to keep up to speed on new technology to better fit in today’s world</a:t>
            </a:r>
            <a:br>
              <a:rPr sz="1500"/>
            </a:br>
            <a:r>
              <a:rPr b="0" lang="en-CA" sz="1500" spc="-1" strike="noStrike">
                <a:solidFill>
                  <a:srgbClr val="000000"/>
                </a:solidFill>
                <a:latin typeface="Lucida Sans Unicode"/>
              </a:rPr>
              <a:t>-we need to limit technological dependence so we don’t lose ourselves</a:t>
            </a:r>
            <a:br>
              <a:rPr sz="1500"/>
            </a:br>
            <a:r>
              <a:rPr b="0" lang="en-CA" sz="1500" spc="-1" strike="noStrike">
                <a:solidFill>
                  <a:srgbClr val="000000"/>
                </a:solidFill>
                <a:latin typeface="Lucida Sans Unicode"/>
              </a:rPr>
              <a:t>-technology can be both useful and dangerous</a:t>
            </a:r>
            <a:br>
              <a:rPr sz="1500"/>
            </a:br>
            <a:br>
              <a:rPr sz="1500"/>
            </a:br>
            <a:r>
              <a:rPr b="1" lang="en-CA" sz="1500" spc="-1" strike="noStrike">
                <a:solidFill>
                  <a:srgbClr val="000000"/>
                </a:solidFill>
                <a:latin typeface="Lucida Sans Unicode"/>
              </a:rPr>
              <a:t>Attitudes:</a:t>
            </a:r>
            <a:br>
              <a:rPr sz="1500"/>
            </a:br>
            <a:r>
              <a:rPr b="0" lang="en-CA" sz="1500" spc="-1" strike="noStrike">
                <a:solidFill>
                  <a:srgbClr val="000000"/>
                </a:solidFill>
                <a:latin typeface="Lucida Sans Unicode"/>
              </a:rPr>
              <a:t>-embrace everything</a:t>
            </a:r>
            <a:br>
              <a:rPr sz="1500"/>
            </a:br>
            <a:r>
              <a:rPr b="0" lang="en-CA" sz="1500" spc="-1" strike="noStrike">
                <a:solidFill>
                  <a:srgbClr val="000000"/>
                </a:solidFill>
                <a:latin typeface="Lucida Sans Unicode"/>
              </a:rPr>
              <a:t>-select what works (old or new) and use it to the best of our and its ability</a:t>
            </a:r>
            <a:endParaRPr b="0" lang="en-US" sz="1500" spc="-1" strike="noStrike">
              <a:solidFill>
                <a:srgbClr val="000000"/>
              </a:solidFill>
              <a:latin typeface="Lucida Sans Unicode"/>
            </a:endParaRPr>
          </a:p>
        </p:txBody>
      </p:sp>
      <p:pic>
        <p:nvPicPr>
          <p:cNvPr id="391" name="Title 2" descr=""/>
          <p:cNvPicPr/>
          <p:nvPr/>
        </p:nvPicPr>
        <p:blipFill>
          <a:blip r:embed="rId1"/>
          <a:stretch/>
        </p:blipFill>
        <p:spPr>
          <a:xfrm>
            <a:off x="328680" y="-96840"/>
            <a:ext cx="8364600" cy="152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Which of the perspectives that shaped educational technology is evident in the video?</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1"/>
              </a:rPr>
              <a:t>http://www.edutopia.org/tech-to-learn-free-online-resources-video</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3" name="Tit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Lucida Sans Unicode"/>
              </a:rPr>
              <a:t>The textbook states that this perspective grew in the 1930’s out of the audiovisual movement. Higher education stated that media such as slides and films were more effective in delivering information than lectures and books. The teacher, Nicole Dalesio, in this video shows many ways in which her students are learning effectively by using technology. The first thing she does is give them projects to do that integrate the curriculum to make learning more meaningful to her students. An example of how she does this is when she allows them to pick something they have already completed in class (ex: a fictional story) and then turn it into a movie. The students are using I-cloud, and free based, applications to make learning more meaningful. By using these free applications it also gives her students more accessibility to their work so they can work on it at home. They also get the opportunity to have a larger audience by using these applications, and this is turn makes them more excited about learning, and makes them want to do a better job on their work. </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75" name="Title 2" descr=""/>
          <p:cNvPicPr/>
          <p:nvPr/>
        </p:nvPicPr>
        <p:blipFill>
          <a:blip r:embed="rId1"/>
          <a:stretch/>
        </p:blipFill>
        <p:spPr>
          <a:xfrm>
            <a:off x="328680" y="-19080"/>
            <a:ext cx="8370720" cy="144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Lucida Sans Unicode"/>
              </a:rPr>
              <a:t>In the video the instructor has given the students a framework for the assignments needed. She then has allowed them access to any online apps and any technology they deem fit for the task they choose. The instructor has given the students training in the software and applications they will be able to choose from - following this it is up to the students to decide. One could argue that “they advocated using more planned, systematic approaches to developing uniform, effective materials and training procedures”. </a:t>
            </a:r>
            <a:br>
              <a:rPr sz="2500"/>
            </a:br>
            <a:r>
              <a:rPr b="0" lang="en-CA"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77" name="Title 2" descr=""/>
          <p:cNvPicPr/>
          <p:nvPr/>
        </p:nvPicPr>
        <p:blipFill>
          <a:blip r:embed="rId1"/>
          <a:stretch/>
        </p:blipFill>
        <p:spPr>
          <a:xfrm>
            <a:off x="328680" y="85680"/>
            <a:ext cx="8364600" cy="134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Lucida Sans Unicode"/>
              </a:rPr>
              <a:t>Perspective three deals with technology education. "An important function of school learning is to prepare students for the world of work in which they will use technology." In the video the teacher is allowing the students to experience the process and do all of the work through trial and error (which is real world). She allows them to collaborate with each other and gives them the opportunity to use writing, reading, spoken, organizational and technological skills during the process. This opportunity to work individually and then collaborate with others is good training for work in the real worl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79" name="Title 2" descr=""/>
          <p:cNvPicPr/>
          <p:nvPr/>
        </p:nvPicPr>
        <p:blipFill>
          <a:blip r:embed="rId1"/>
          <a:stretch/>
        </p:blipFill>
        <p:spPr>
          <a:xfrm>
            <a:off x="328680" y="268200"/>
            <a:ext cx="836460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Lucida Sans Unicode"/>
              </a:rPr>
              <a:t>The presence of computers in the classroom began in the 1960’s. As they began to transform industry practice teachers began to see the potential they had to aid instruction. A shift began in the 1990’s where teachers began to see computers not only as tools but a combination of technology resources. Ms. Dalesio showcases this in her classroom by having students contribute to their own learning using a variety of software now available in classrooms. Fostering learning using digital art, music/audio recording and photo/movie software provides opportunity for collaboration. Ms. Dalesio creates an authentic audience by making their work available on the web, using I-cloud. At this point educational computing is known as educational technology.</a:t>
            </a:r>
            <a:endParaRPr b="0" lang="en-US" sz="2300" spc="-1" strike="noStrike">
              <a:solidFill>
                <a:srgbClr val="000000"/>
              </a:solidFill>
              <a:latin typeface="Lucida Sans Unicode"/>
            </a:endParaRPr>
          </a:p>
        </p:txBody>
      </p:sp>
      <p:pic>
        <p:nvPicPr>
          <p:cNvPr id="381" name="Title 2" descr=""/>
          <p:cNvPicPr/>
          <p:nvPr/>
        </p:nvPicPr>
        <p:blipFill>
          <a:blip r:embed="rId1"/>
          <a:stretch/>
        </p:blipFill>
        <p:spPr>
          <a:xfrm>
            <a:off x="328680" y="85680"/>
            <a:ext cx="8364600" cy="134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  Refer to figure 1.5, Page 26.</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3"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Lucida Sans Unicode"/>
              </a:rPr>
              <a:t>» Gains learner attention –</a:t>
            </a:r>
            <a:r>
              <a:rPr b="0" lang="en-CA" sz="1700" spc="-1" strike="noStrike">
                <a:solidFill>
                  <a:srgbClr val="000000"/>
                </a:solidFill>
                <a:latin typeface="Lucida Sans Unicode"/>
              </a:rPr>
              <a:t> in the video the students are highly engaged because they have choices and they feel like they are in control.</a:t>
            </a:r>
            <a:r>
              <a:rPr b="1" lang="en-CA" sz="1700" spc="-1" strike="noStrike">
                <a:solidFill>
                  <a:srgbClr val="000000"/>
                </a:solidFill>
                <a:latin typeface="Lucida Sans Unicode"/>
              </a:rPr>
              <a:t>  </a:t>
            </a:r>
            <a:br>
              <a:rPr sz="1700"/>
            </a:br>
            <a:r>
              <a:rPr b="1" lang="en-CA" sz="1700" spc="-1" strike="noStrike">
                <a:solidFill>
                  <a:srgbClr val="000000"/>
                </a:solidFill>
                <a:latin typeface="Lucida Sans Unicode"/>
              </a:rPr>
              <a:t>» Supports manual operations during high-level learning</a:t>
            </a:r>
            <a:br>
              <a:rPr sz="1700"/>
            </a:br>
            <a:r>
              <a:rPr b="1" lang="en-CA" sz="1700" spc="-1" strike="noStrike">
                <a:solidFill>
                  <a:srgbClr val="000000"/>
                </a:solidFill>
                <a:latin typeface="Lucida Sans Unicode"/>
              </a:rPr>
              <a:t>» Illustrates real-world relevance through highly visual </a:t>
            </a:r>
            <a:br>
              <a:rPr sz="1700"/>
            </a:br>
            <a:r>
              <a:rPr b="1" lang="en-CA" sz="1700" spc="-1" strike="noStrike">
                <a:solidFill>
                  <a:srgbClr val="000000"/>
                </a:solidFill>
                <a:latin typeface="Lucida Sans Unicode"/>
              </a:rPr>
              <a:t>presentations – </a:t>
            </a:r>
            <a:r>
              <a:rPr b="0" lang="en-CA" sz="1700" spc="-1" strike="noStrike">
                <a:solidFill>
                  <a:srgbClr val="000000"/>
                </a:solidFill>
                <a:latin typeface="Lucida Sans Unicode"/>
              </a:rPr>
              <a:t>some of the students are working on math tutorials while others are making movies with music.</a:t>
            </a:r>
            <a:br>
              <a:rPr sz="1700"/>
            </a:br>
            <a:r>
              <a:rPr b="1" lang="en-CA" sz="1700" spc="-1" strike="noStrike">
                <a:solidFill>
                  <a:srgbClr val="000000"/>
                </a:solidFill>
                <a:latin typeface="Lucida Sans Unicode"/>
              </a:rPr>
              <a:t>» Engages students through production work – </a:t>
            </a:r>
            <a:r>
              <a:rPr b="0" lang="en-CA" sz="1700" spc="-1" strike="noStrike">
                <a:solidFill>
                  <a:srgbClr val="000000"/>
                </a:solidFill>
                <a:latin typeface="Lucida Sans Unicode"/>
              </a:rPr>
              <a:t>the students in the video are working through the process from beginning to end.</a:t>
            </a:r>
            <a:br>
              <a:rPr sz="1700"/>
            </a:br>
            <a:r>
              <a:rPr b="1" lang="en-CA" sz="1700" spc="-1" strike="noStrike">
                <a:solidFill>
                  <a:srgbClr val="000000"/>
                </a:solidFill>
                <a:latin typeface="Lucida Sans Unicode"/>
              </a:rPr>
              <a:t>» Connects students with audiences for their writing –</a:t>
            </a:r>
            <a:r>
              <a:rPr b="0" lang="en-CA" sz="1700" spc="-1" strike="noStrike">
                <a:solidFill>
                  <a:srgbClr val="000000"/>
                </a:solidFill>
                <a:latin typeface="Lucida Sans Unicode"/>
              </a:rPr>
              <a:t> The teacher had told the students that their work would be available for others to see so the students know that they are writing for an authentic audience.</a:t>
            </a:r>
            <a:br>
              <a:rPr sz="1700"/>
            </a:br>
            <a:r>
              <a:rPr b="1" lang="en-CA" sz="1700" spc="-1" strike="noStrike">
                <a:solidFill>
                  <a:srgbClr val="000000"/>
                </a:solidFill>
                <a:latin typeface="Lucida Sans Unicode"/>
              </a:rPr>
              <a:t>» Engages learners through real-world situations and collaborations </a:t>
            </a:r>
            <a:r>
              <a:rPr b="0" lang="en-CA" sz="1700" spc="-1" strike="noStrike">
                <a:solidFill>
                  <a:srgbClr val="000000"/>
                </a:solidFill>
                <a:latin typeface="Lucida Sans Unicode"/>
              </a:rPr>
              <a:t>– the teacher has allowed the students to collaborate with each other just as they will in real world work someday.</a:t>
            </a:r>
            <a:br>
              <a:rPr sz="1700"/>
            </a:br>
            <a:r>
              <a:rPr b="1" lang="en-CA" sz="1700" spc="-1" strike="noStrike">
                <a:solidFill>
                  <a:srgbClr val="000000"/>
                </a:solidFill>
                <a:latin typeface="Lucida Sans Unicode"/>
              </a:rPr>
              <a:t>» Provides support for working cooperatively – </a:t>
            </a:r>
            <a:r>
              <a:rPr b="0" lang="en-CA" sz="1700" spc="-1" strike="noStrike">
                <a:solidFill>
                  <a:srgbClr val="000000"/>
                </a:solidFill>
                <a:latin typeface="Lucida Sans Unicode"/>
              </a:rPr>
              <a:t>the teacher is supporting collaboration.</a:t>
            </a:r>
            <a:endParaRPr b="0" lang="en-US" sz="1700" spc="-1" strike="noStrike">
              <a:solidFill>
                <a:srgbClr val="000000"/>
              </a:solidFill>
              <a:latin typeface="Lucida Sans Unicode"/>
            </a:endParaRPr>
          </a:p>
        </p:txBody>
      </p:sp>
      <p:pic>
        <p:nvPicPr>
          <p:cNvPr id="385" name="Title 2" descr=""/>
          <p:cNvPicPr/>
          <p:nvPr/>
        </p:nvPicPr>
        <p:blipFill>
          <a:blip r:embed="rId1"/>
          <a:stretch/>
        </p:blipFill>
        <p:spPr>
          <a:xfrm>
            <a:off x="328680" y="85680"/>
            <a:ext cx="8364600" cy="134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Lucida Sans Unicode"/>
              </a:rPr>
              <a:t>» Supports effective skill practice </a:t>
            </a:r>
            <a:r>
              <a:rPr b="0" lang="en-CA" sz="1700" spc="-1" strike="noStrike">
                <a:solidFill>
                  <a:srgbClr val="000000"/>
                </a:solidFill>
                <a:latin typeface="Lucida Sans Unicode"/>
              </a:rPr>
              <a:t>– the students are working directly on the computer.</a:t>
            </a:r>
            <a:br>
              <a:rPr sz="1700"/>
            </a:br>
            <a:r>
              <a:rPr b="1" lang="en-CA" sz="1700" spc="-1" strike="noStrike">
                <a:solidFill>
                  <a:srgbClr val="000000"/>
                </a:solidFill>
                <a:latin typeface="Lucida Sans Unicode"/>
              </a:rPr>
              <a:t>» Helps students visualize underlying concepts in unfamiliar or abstract topics</a:t>
            </a:r>
            <a:r>
              <a:rPr b="0" lang="en-CA" sz="1700" spc="-1" strike="noStrike">
                <a:solidFill>
                  <a:srgbClr val="000000"/>
                </a:solidFill>
                <a:latin typeface="Lucida Sans Unicode"/>
              </a:rPr>
              <a:t> – the students have the opportunity to insert pictures in their work to make it less abstract.</a:t>
            </a:r>
            <a:br>
              <a:rPr sz="1700"/>
            </a:br>
            <a:r>
              <a:rPr b="1" lang="en-CA" sz="1700" spc="-1" strike="noStrike">
                <a:solidFill>
                  <a:srgbClr val="000000"/>
                </a:solidFill>
                <a:latin typeface="Lucida Sans Unicode"/>
              </a:rPr>
              <a:t>» Lets students study systems in unique ways – </a:t>
            </a:r>
            <a:r>
              <a:rPr b="0" lang="en-CA" sz="1700" spc="-1" strike="noStrike">
                <a:solidFill>
                  <a:srgbClr val="000000"/>
                </a:solidFill>
                <a:latin typeface="Lucida Sans Unicode"/>
              </a:rPr>
              <a:t>they are studying their topics through all mediums.</a:t>
            </a:r>
            <a:br>
              <a:rPr sz="1700"/>
            </a:br>
            <a:r>
              <a:rPr b="1" lang="en-CA" sz="1700" spc="-1" strike="noStrike">
                <a:solidFill>
                  <a:srgbClr val="000000"/>
                </a:solidFill>
                <a:latin typeface="Lucida Sans Unicode"/>
              </a:rPr>
              <a:t>» Gives access to unique information sources and populations</a:t>
            </a:r>
            <a:br>
              <a:rPr sz="1700"/>
            </a:br>
            <a:r>
              <a:rPr b="1" lang="en-CA" sz="1700" spc="-1" strike="noStrike">
                <a:solidFill>
                  <a:srgbClr val="000000"/>
                </a:solidFill>
                <a:latin typeface="Lucida Sans Unicode"/>
              </a:rPr>
              <a:t>» Supplies self-paced learning for accelerated students </a:t>
            </a:r>
            <a:r>
              <a:rPr b="0" lang="en-CA" sz="1700" spc="-1" strike="noStrike">
                <a:solidFill>
                  <a:srgbClr val="000000"/>
                </a:solidFill>
                <a:latin typeface="Lucida Sans Unicode"/>
              </a:rPr>
              <a:t>– the students who are able to get their work done with ease are allowed to guide others and this reinforces the process to the helping student.</a:t>
            </a:r>
            <a:br>
              <a:rPr sz="1700"/>
            </a:br>
            <a:r>
              <a:rPr b="1" lang="en-CA" sz="1700" spc="-1" strike="noStrike">
                <a:solidFill>
                  <a:srgbClr val="000000"/>
                </a:solidFill>
                <a:latin typeface="Lucida Sans Unicode"/>
              </a:rPr>
              <a:t>» Turns disabilities into capabilities –</a:t>
            </a:r>
            <a:r>
              <a:rPr b="0" lang="en-CA" sz="1700" spc="-1" strike="noStrike">
                <a:solidFill>
                  <a:srgbClr val="000000"/>
                </a:solidFill>
                <a:latin typeface="Lucida Sans Unicode"/>
              </a:rPr>
              <a:t> a student who has difficulty with fine motor skills would have a success with the computer.</a:t>
            </a:r>
            <a:br>
              <a:rPr sz="1700"/>
            </a:br>
            <a:r>
              <a:rPr b="1" lang="en-CA" sz="1700" spc="-1" strike="noStrike">
                <a:solidFill>
                  <a:srgbClr val="000000"/>
                </a:solidFill>
                <a:latin typeface="Lucida Sans Unicode"/>
              </a:rPr>
              <a:t>» Provides faster access to information sources – </a:t>
            </a:r>
            <a:r>
              <a:rPr b="0" lang="en-CA" sz="1700" spc="-1" strike="noStrike">
                <a:solidFill>
                  <a:srgbClr val="000000"/>
                </a:solidFill>
                <a:latin typeface="Lucida Sans Unicode"/>
              </a:rPr>
              <a:t>using the computer provides instant information.</a:t>
            </a:r>
            <a:br>
              <a:rPr sz="1700"/>
            </a:br>
            <a:r>
              <a:rPr b="1" lang="en-CA" sz="1700" spc="-1" strike="noStrike">
                <a:solidFill>
                  <a:srgbClr val="000000"/>
                </a:solidFill>
                <a:latin typeface="Lucida Sans Unicode"/>
              </a:rPr>
              <a:t>» Saves money on consumable materials – </a:t>
            </a:r>
            <a:r>
              <a:rPr b="0" lang="en-CA" sz="1700" spc="-1" strike="noStrike">
                <a:solidFill>
                  <a:srgbClr val="000000"/>
                </a:solidFill>
                <a:latin typeface="Lucida Sans Unicode"/>
              </a:rPr>
              <a:t>if a student wanted to demonstrate how electricity works, he could build a battery on the computer and would not have to go out and buy the expensive materials required.</a:t>
            </a:r>
            <a:endParaRPr b="0" lang="en-US" sz="1700" spc="-1" strike="noStrike">
              <a:solidFill>
                <a:srgbClr val="000000"/>
              </a:solidFill>
              <a:latin typeface="Lucida Sans Unicode"/>
            </a:endParaRPr>
          </a:p>
        </p:txBody>
      </p:sp>
      <p:pic>
        <p:nvPicPr>
          <p:cNvPr id="387" name="Title 2" descr=""/>
          <p:cNvPicPr/>
          <p:nvPr/>
        </p:nvPicPr>
        <p:blipFill>
          <a:blip r:embed="rId1"/>
          <a:stretch/>
        </p:blipFill>
        <p:spPr>
          <a:xfrm>
            <a:off x="328680" y="268200"/>
            <a:ext cx="836460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30T13:33:23Z</dcterms:created>
  <dc:creator>ladmin</dc:creator>
  <dc:description/>
  <dc:language>en-US</dc:language>
  <cp:lastModifiedBy>Province of NS</cp:lastModifiedBy>
  <dcterms:modified xsi:type="dcterms:W3CDTF">2012-07-05T14:35:40Z</dcterms:modified>
  <cp:revision>3</cp:revision>
  <dc:subject/>
  <dc:title>Chapter 1</dc:title>
</cp:coreProperties>
</file>